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10.jpeg" ContentType="image/jpeg"/>
  <Override PartName="/ppt/media/image9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5.wmf" ContentType="image/x-wmf"/>
  <Override PartName="/ppt/media/image25.jpeg" ContentType="image/jpeg"/>
  <Override PartName="/ppt/media/image3.png" ContentType="image/png"/>
  <Override PartName="/ppt/media/image24.jpeg" ContentType="image/jpeg"/>
  <Override PartName="/ppt/media/image21.wmf" ContentType="image/x-wmf"/>
  <Override PartName="/ppt/media/image22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16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84E-27F9-4B88-861E-7FCF4608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0DC-C1C8-4ABB-9377-5692B2D9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CBE-0A4D-4C6B-8E2E-F59DAAD3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7EF-A076-4070-AF5A-21553088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EBF-D36E-4EFE-A79F-2AEFDAA7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4D6-099B-4EAE-838A-9E1C22CA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5A1-9D02-42BE-896A-6B628AC6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38E-4018-426B-8DD9-67A40717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6A8-69A9-4B4E-9B61-B823FE34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3C7-FEA5-4E70-AD45-43D1C568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FF9-F072-456F-B623-5C2F5F24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2A0-5706-4762-8463-55808D6E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B6F-2EEE-4331-A7FA-320AE33E17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wmf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jpeg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iss Gooding’s example of a mind-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Object 6"/>
          <p:cNvGraphicFramePr/>
          <p:nvPr/>
        </p:nvGraphicFramePr>
        <p:xfrm>
          <a:off x="1530360" y="1398600"/>
          <a:ext cx="608328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1398600"/>
                    <a:ext cx="608328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5" descr="C:\Documents and Settings\08640585\Local Settings\Temporary Internet Files\Content.IE5\18R017CZ\MCj02949350000[1].wmf"/>
          <p:cNvPicPr/>
          <p:nvPr/>
        </p:nvPicPr>
        <p:blipFill>
          <a:blip r:embed="rId3"/>
          <a:stretch/>
        </p:blipFill>
        <p:spPr>
          <a:xfrm>
            <a:off x="2857680" y="242892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3. Add arrows to connect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14"/>
          <p:cNvSpPr/>
          <p:nvPr/>
        </p:nvSpPr>
        <p:spPr>
          <a:xfrm>
            <a:off x="2928960" y="3357720"/>
            <a:ext cx="2643120" cy="928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wn Ribbon 4"/>
          <p:cNvSpPr/>
          <p:nvPr/>
        </p:nvSpPr>
        <p:spPr>
          <a:xfrm>
            <a:off x="2714760" y="2571840"/>
            <a:ext cx="2714400" cy="428400"/>
          </a:xfrm>
          <a:custGeom>
            <a:avLst/>
            <a:gdLst>
              <a:gd name="textAreaLeft" fmla="*/ 678600 w 2714400"/>
              <a:gd name="textAreaRight" fmla="*/ 2035800 w 2714400"/>
              <a:gd name="textAreaTop" fmla="*/ 7128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rved Up Ribbon 6"/>
          <p:cNvSpPr/>
          <p:nvPr/>
        </p:nvSpPr>
        <p:spPr>
          <a:xfrm>
            <a:off x="1000080" y="2786040"/>
            <a:ext cx="1928880" cy="1500120"/>
          </a:xfrm>
          <a:custGeom>
            <a:avLst/>
            <a:gdLst>
              <a:gd name="textAreaLeft" fmla="*/ 482040 w 1928880"/>
              <a:gd name="textAreaRight" fmla="*/ 1446840 w 1928880"/>
              <a:gd name="textAreaTop" fmla="*/ 44280 h 1500120"/>
              <a:gd name="textAreaBottom" fmla="*/ 1125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Horizontal Scroll 8"/>
          <p:cNvSpPr/>
          <p:nvPr/>
        </p:nvSpPr>
        <p:spPr>
          <a:xfrm>
            <a:off x="5643720" y="2357280"/>
            <a:ext cx="1428480" cy="1500480"/>
          </a:xfrm>
          <a:prstGeom prst="horizontalScroll">
            <a:avLst>
              <a:gd name="adj" fmla="val 1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p Ribbon 10"/>
          <p:cNvSpPr/>
          <p:nvPr/>
        </p:nvSpPr>
        <p:spPr>
          <a:xfrm>
            <a:off x="1285920" y="4643280"/>
            <a:ext cx="3571920" cy="500400"/>
          </a:xfrm>
          <a:custGeom>
            <a:avLst/>
            <a:gdLst>
              <a:gd name="textAreaLeft" fmla="*/ 892800 w 3571920"/>
              <a:gd name="textAreaRight" fmla="*/ 2679120 w 3571920"/>
              <a:gd name="textAreaTop" fmla="*/ 0 h 500400"/>
              <a:gd name="textAreaBottom" fmla="*/ 417240 h 5004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ave 11"/>
          <p:cNvSpPr/>
          <p:nvPr/>
        </p:nvSpPr>
        <p:spPr>
          <a:xfrm>
            <a:off x="5214960" y="4286160"/>
            <a:ext cx="1928880" cy="642960"/>
          </a:xfrm>
          <a:custGeom>
            <a:avLst/>
            <a:gdLst>
              <a:gd name="textAreaLeft" fmla="*/ 0 w 1928880"/>
              <a:gd name="textAreaRight" fmla="*/ 1929240 w 192888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3"/>
          <p:cNvCxnSpPr>
            <a:stCxn id="78" idx="0"/>
          </p:cNvCxnSpPr>
          <p:nvPr/>
        </p:nvCxnSpPr>
        <p:spPr>
          <a:xfrm flipH="1" flipV="1">
            <a:off x="4214160" y="3071160"/>
            <a:ext cx="3564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20"/>
          <p:cNvCxnSpPr>
            <a:stCxn id="78" idx="1"/>
            <a:endCxn id="80" idx="0"/>
          </p:cNvCxnSpPr>
          <p:nvPr/>
        </p:nvCxnSpPr>
        <p:spPr>
          <a:xfrm flipH="1" flipV="1">
            <a:off x="2687400" y="3641040"/>
            <a:ext cx="24984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2"/>
          <p:cNvCxnSpPr>
            <a:stCxn id="78" idx="2"/>
          </p:cNvCxnSpPr>
          <p:nvPr/>
        </p:nvCxnSpPr>
        <p:spPr>
          <a:xfrm flipH="1">
            <a:off x="4214160" y="4284360"/>
            <a:ext cx="3564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24"/>
          <p:cNvCxnSpPr/>
          <p:nvPr/>
        </p:nvCxnSpPr>
        <p:spPr>
          <a:xfrm>
            <a:off x="5143320" y="4071600"/>
            <a:ext cx="5007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27"/>
          <p:cNvCxnSpPr/>
          <p:nvPr/>
        </p:nvCxnSpPr>
        <p:spPr>
          <a:xfrm flipV="1">
            <a:off x="5357880" y="3357360"/>
            <a:ext cx="28656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53"/>
          <p:cNvCxnSpPr>
            <a:stCxn id="81" idx="0"/>
          </p:cNvCxnSpPr>
          <p:nvPr/>
        </p:nvCxnSpPr>
        <p:spPr>
          <a:xfrm flipV="1">
            <a:off x="6357960" y="2214360"/>
            <a:ext cx="72000" cy="3211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0" name="Straight Arrow Connector 56"/>
          <p:cNvCxnSpPr/>
          <p:nvPr/>
        </p:nvCxnSpPr>
        <p:spPr>
          <a:xfrm flipV="1">
            <a:off x="7071840" y="2356560"/>
            <a:ext cx="500760" cy="3582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1" name="Straight Arrow Connector 58"/>
          <p:cNvCxnSpPr>
            <a:stCxn id="81" idx="3"/>
          </p:cNvCxnSpPr>
          <p:nvPr/>
        </p:nvCxnSpPr>
        <p:spPr>
          <a:xfrm flipV="1">
            <a:off x="7071840" y="3071160"/>
            <a:ext cx="715320" cy="356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2" name="Straight Arrow Connector 61"/>
          <p:cNvCxnSpPr>
            <a:stCxn id="83" idx="3"/>
          </p:cNvCxnSpPr>
          <p:nvPr/>
        </p:nvCxnSpPr>
        <p:spPr>
          <a:xfrm>
            <a:off x="7143840" y="4608000"/>
            <a:ext cx="286560" cy="35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93" name="Straight Arrow Connector 63"/>
          <p:cNvCxnSpPr/>
          <p:nvPr/>
        </p:nvCxnSpPr>
        <p:spPr>
          <a:xfrm>
            <a:off x="6999840" y="4928760"/>
            <a:ext cx="50076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94" name="Straight Arrow Connector 65"/>
          <p:cNvCxnSpPr/>
          <p:nvPr/>
        </p:nvCxnSpPr>
        <p:spPr>
          <a:xfrm>
            <a:off x="5713920" y="4857840"/>
            <a:ext cx="214920" cy="286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95" name="Straight Arrow Connector 68"/>
          <p:cNvCxnSpPr/>
          <p:nvPr/>
        </p:nvCxnSpPr>
        <p:spPr>
          <a:xfrm flipH="1">
            <a:off x="1499400" y="5213880"/>
            <a:ext cx="429480" cy="3229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96" name="Straight Arrow Connector 70"/>
          <p:cNvCxnSpPr/>
          <p:nvPr/>
        </p:nvCxnSpPr>
        <p:spPr>
          <a:xfrm flipH="1">
            <a:off x="2714040" y="5072040"/>
            <a:ext cx="143640" cy="6433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97" name="Straight Arrow Connector 72"/>
          <p:cNvCxnSpPr/>
          <p:nvPr/>
        </p:nvCxnSpPr>
        <p:spPr>
          <a:xfrm>
            <a:off x="3500280" y="5143320"/>
            <a:ext cx="215280" cy="5007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98" name="Straight Arrow Connector 74"/>
          <p:cNvCxnSpPr>
            <a:stCxn id="80" idx="1"/>
          </p:cNvCxnSpPr>
          <p:nvPr/>
        </p:nvCxnSpPr>
        <p:spPr>
          <a:xfrm flipV="1">
            <a:off x="1963800" y="2285280"/>
            <a:ext cx="1800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9" name="Straight Arrow Connector 76"/>
          <p:cNvCxnSpPr/>
          <p:nvPr/>
        </p:nvCxnSpPr>
        <p:spPr>
          <a:xfrm flipH="1" flipV="1">
            <a:off x="1285200" y="1571040"/>
            <a:ext cx="429480" cy="12150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0" name="Straight Arrow Connector 78"/>
          <p:cNvCxnSpPr/>
          <p:nvPr/>
        </p:nvCxnSpPr>
        <p:spPr>
          <a:xfrm flipH="1" flipV="1">
            <a:off x="928080" y="2714400"/>
            <a:ext cx="214920" cy="3578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1" name="Straight Arrow Connector 80"/>
          <p:cNvCxnSpPr/>
          <p:nvPr/>
        </p:nvCxnSpPr>
        <p:spPr>
          <a:xfrm flipV="1">
            <a:off x="5000760" y="2071080"/>
            <a:ext cx="25092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02" name="Straight Arrow Connector 82"/>
          <p:cNvCxnSpPr>
            <a:stCxn id="79" idx="0"/>
          </p:cNvCxnSpPr>
          <p:nvPr/>
        </p:nvCxnSpPr>
        <p:spPr>
          <a:xfrm flipV="1">
            <a:off x="4070880" y="2071080"/>
            <a:ext cx="14364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03" name="Straight Arrow Connector 85"/>
          <p:cNvCxnSpPr/>
          <p:nvPr/>
        </p:nvCxnSpPr>
        <p:spPr>
          <a:xfrm flipH="1" flipV="1">
            <a:off x="3142800" y="1928520"/>
            <a:ext cx="215280" cy="714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AU" sz="4400" spc="-1" strike="noStrike">
                <a:solidFill>
                  <a:srgbClr val="ff0000"/>
                </a:solidFill>
                <a:latin typeface="Calibri"/>
              </a:rPr>
              <a:t>4. Add 3 elements for each category. Make sure to include colour and shapes to keep it cle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Content Placeholder 14"/>
          <p:cNvSpPr/>
          <p:nvPr/>
        </p:nvSpPr>
        <p:spPr>
          <a:xfrm>
            <a:off x="2928960" y="3357720"/>
            <a:ext cx="2643120" cy="928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own Ribbon 9"/>
          <p:cNvSpPr/>
          <p:nvPr/>
        </p:nvSpPr>
        <p:spPr>
          <a:xfrm>
            <a:off x="2714760" y="2571840"/>
            <a:ext cx="2714400" cy="428400"/>
          </a:xfrm>
          <a:custGeom>
            <a:avLst/>
            <a:gdLst>
              <a:gd name="textAreaLeft" fmla="*/ 678600 w 2714400"/>
              <a:gd name="textAreaRight" fmla="*/ 2035800 w 2714400"/>
              <a:gd name="textAreaTop" fmla="*/ 7128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rved Up Ribbon 10"/>
          <p:cNvSpPr/>
          <p:nvPr/>
        </p:nvSpPr>
        <p:spPr>
          <a:xfrm>
            <a:off x="1000080" y="2786040"/>
            <a:ext cx="1928880" cy="1500120"/>
          </a:xfrm>
          <a:custGeom>
            <a:avLst/>
            <a:gdLst>
              <a:gd name="textAreaLeft" fmla="*/ 482040 w 1928880"/>
              <a:gd name="textAreaRight" fmla="*/ 1446840 w 1928880"/>
              <a:gd name="textAreaTop" fmla="*/ 44280 h 1500120"/>
              <a:gd name="textAreaBottom" fmla="*/ 1125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orizontal Scroll 11"/>
          <p:cNvSpPr/>
          <p:nvPr/>
        </p:nvSpPr>
        <p:spPr>
          <a:xfrm>
            <a:off x="5643720" y="2357280"/>
            <a:ext cx="1428480" cy="1500480"/>
          </a:xfrm>
          <a:prstGeom prst="horizontalScroll">
            <a:avLst>
              <a:gd name="adj" fmla="val 1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Up Ribbon 12"/>
          <p:cNvSpPr/>
          <p:nvPr/>
        </p:nvSpPr>
        <p:spPr>
          <a:xfrm>
            <a:off x="1285920" y="4643280"/>
            <a:ext cx="3571920" cy="500400"/>
          </a:xfrm>
          <a:custGeom>
            <a:avLst/>
            <a:gdLst>
              <a:gd name="textAreaLeft" fmla="*/ 892800 w 3571920"/>
              <a:gd name="textAreaRight" fmla="*/ 2679120 w 3571920"/>
              <a:gd name="textAreaTop" fmla="*/ 0 h 500400"/>
              <a:gd name="textAreaBottom" fmla="*/ 417240 h 5004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ave 13"/>
          <p:cNvSpPr/>
          <p:nvPr/>
        </p:nvSpPr>
        <p:spPr>
          <a:xfrm>
            <a:off x="5214960" y="4286160"/>
            <a:ext cx="1928880" cy="642960"/>
          </a:xfrm>
          <a:custGeom>
            <a:avLst/>
            <a:gdLst>
              <a:gd name="textAreaLeft" fmla="*/ 0 w 1928880"/>
              <a:gd name="textAreaRight" fmla="*/ 1929240 w 192888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4"/>
          <p:cNvCxnSpPr>
            <a:stCxn id="107" idx="0"/>
          </p:cNvCxnSpPr>
          <p:nvPr/>
        </p:nvCxnSpPr>
        <p:spPr>
          <a:xfrm flipH="1" flipV="1">
            <a:off x="4214160" y="3071160"/>
            <a:ext cx="3564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Straight Arrow Connector 15"/>
          <p:cNvCxnSpPr>
            <a:stCxn id="107" idx="1"/>
            <a:endCxn id="109" idx="0"/>
          </p:cNvCxnSpPr>
          <p:nvPr/>
        </p:nvCxnSpPr>
        <p:spPr>
          <a:xfrm flipH="1" flipV="1">
            <a:off x="2687400" y="3641040"/>
            <a:ext cx="24984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Straight Arrow Connector 16"/>
          <p:cNvCxnSpPr>
            <a:stCxn id="107" idx="2"/>
          </p:cNvCxnSpPr>
          <p:nvPr/>
        </p:nvCxnSpPr>
        <p:spPr>
          <a:xfrm flipH="1">
            <a:off x="4214160" y="4284360"/>
            <a:ext cx="3564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Straight Arrow Connector 17"/>
          <p:cNvCxnSpPr/>
          <p:nvPr/>
        </p:nvCxnSpPr>
        <p:spPr>
          <a:xfrm>
            <a:off x="5143320" y="4071600"/>
            <a:ext cx="5007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Straight Arrow Connector 18"/>
          <p:cNvCxnSpPr/>
          <p:nvPr/>
        </p:nvCxnSpPr>
        <p:spPr>
          <a:xfrm flipV="1">
            <a:off x="5357880" y="3357360"/>
            <a:ext cx="28656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Straight Arrow Connector 20"/>
          <p:cNvCxnSpPr>
            <a:stCxn id="110" idx="0"/>
          </p:cNvCxnSpPr>
          <p:nvPr/>
        </p:nvCxnSpPr>
        <p:spPr>
          <a:xfrm flipV="1">
            <a:off x="6357960" y="2214360"/>
            <a:ext cx="72000" cy="3211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9" name="Straight Arrow Connector 21"/>
          <p:cNvCxnSpPr/>
          <p:nvPr/>
        </p:nvCxnSpPr>
        <p:spPr>
          <a:xfrm flipV="1">
            <a:off x="7071840" y="2356560"/>
            <a:ext cx="500760" cy="3582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20" name="Straight Arrow Connector 22"/>
          <p:cNvCxnSpPr>
            <a:stCxn id="110" idx="3"/>
          </p:cNvCxnSpPr>
          <p:nvPr/>
        </p:nvCxnSpPr>
        <p:spPr>
          <a:xfrm flipV="1">
            <a:off x="7071840" y="3071160"/>
            <a:ext cx="715320" cy="356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21" name="Straight Arrow Connector 23"/>
          <p:cNvCxnSpPr>
            <a:stCxn id="112" idx="3"/>
          </p:cNvCxnSpPr>
          <p:nvPr/>
        </p:nvCxnSpPr>
        <p:spPr>
          <a:xfrm>
            <a:off x="7143840" y="4608000"/>
            <a:ext cx="286560" cy="35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2" name="Straight Arrow Connector 24"/>
          <p:cNvCxnSpPr/>
          <p:nvPr/>
        </p:nvCxnSpPr>
        <p:spPr>
          <a:xfrm>
            <a:off x="6999840" y="4928760"/>
            <a:ext cx="50076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3" name="Straight Arrow Connector 25"/>
          <p:cNvCxnSpPr/>
          <p:nvPr/>
        </p:nvCxnSpPr>
        <p:spPr>
          <a:xfrm>
            <a:off x="5713920" y="4857840"/>
            <a:ext cx="214920" cy="286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 flipH="1">
            <a:off x="1499400" y="5213880"/>
            <a:ext cx="429480" cy="3229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25" name="Straight Arrow Connector 27"/>
          <p:cNvCxnSpPr/>
          <p:nvPr/>
        </p:nvCxnSpPr>
        <p:spPr>
          <a:xfrm flipH="1">
            <a:off x="2714040" y="5072040"/>
            <a:ext cx="143640" cy="6433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26" name="Straight Arrow Connector 28"/>
          <p:cNvCxnSpPr/>
          <p:nvPr/>
        </p:nvCxnSpPr>
        <p:spPr>
          <a:xfrm>
            <a:off x="3500280" y="5143320"/>
            <a:ext cx="215280" cy="5007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27" name="Straight Arrow Connector 29"/>
          <p:cNvCxnSpPr>
            <a:stCxn id="109" idx="1"/>
          </p:cNvCxnSpPr>
          <p:nvPr/>
        </p:nvCxnSpPr>
        <p:spPr>
          <a:xfrm flipV="1">
            <a:off x="1963800" y="2285280"/>
            <a:ext cx="180000" cy="50076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28" name="Straight Arrow Connector 30"/>
          <p:cNvCxnSpPr/>
          <p:nvPr/>
        </p:nvCxnSpPr>
        <p:spPr>
          <a:xfrm flipH="1" flipV="1">
            <a:off x="1285200" y="1571040"/>
            <a:ext cx="429480" cy="121500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29" name="Straight Arrow Connector 31"/>
          <p:cNvCxnSpPr/>
          <p:nvPr/>
        </p:nvCxnSpPr>
        <p:spPr>
          <a:xfrm flipH="1" flipV="1">
            <a:off x="928080" y="2714400"/>
            <a:ext cx="214920" cy="35784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30" name="Straight Arrow Connector 32"/>
          <p:cNvCxnSpPr/>
          <p:nvPr/>
        </p:nvCxnSpPr>
        <p:spPr>
          <a:xfrm flipV="1">
            <a:off x="5000760" y="2071080"/>
            <a:ext cx="25092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31" name="Straight Arrow Connector 33"/>
          <p:cNvCxnSpPr>
            <a:stCxn id="108" idx="0"/>
          </p:cNvCxnSpPr>
          <p:nvPr/>
        </p:nvCxnSpPr>
        <p:spPr>
          <a:xfrm flipV="1">
            <a:off x="4070880" y="2071080"/>
            <a:ext cx="14364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32" name="Straight Arrow Connector 34"/>
          <p:cNvCxnSpPr/>
          <p:nvPr/>
        </p:nvCxnSpPr>
        <p:spPr>
          <a:xfrm flipH="1" flipV="1">
            <a:off x="3142800" y="1928520"/>
            <a:ext cx="215280" cy="714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133" name="Explosion 1 62"/>
          <p:cNvSpPr/>
          <p:nvPr/>
        </p:nvSpPr>
        <p:spPr>
          <a:xfrm>
            <a:off x="714240" y="714240"/>
            <a:ext cx="91440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xplosion 1 63"/>
          <p:cNvSpPr/>
          <p:nvPr/>
        </p:nvSpPr>
        <p:spPr>
          <a:xfrm>
            <a:off x="285840" y="1857240"/>
            <a:ext cx="91440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xplosion 1 64"/>
          <p:cNvSpPr/>
          <p:nvPr/>
        </p:nvSpPr>
        <p:spPr>
          <a:xfrm>
            <a:off x="1571760" y="1428840"/>
            <a:ext cx="91440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5"/>
          <p:cNvSpPr/>
          <p:nvPr/>
        </p:nvSpPr>
        <p:spPr>
          <a:xfrm>
            <a:off x="2143080" y="114300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6"/>
          <p:cNvSpPr/>
          <p:nvPr/>
        </p:nvSpPr>
        <p:spPr>
          <a:xfrm>
            <a:off x="3429000" y="128592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7"/>
          <p:cNvSpPr/>
          <p:nvPr/>
        </p:nvSpPr>
        <p:spPr>
          <a:xfrm>
            <a:off x="4572000" y="128592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-Point Star 68"/>
          <p:cNvSpPr/>
          <p:nvPr/>
        </p:nvSpPr>
        <p:spPr>
          <a:xfrm>
            <a:off x="5857920" y="1571760"/>
            <a:ext cx="1214280" cy="714240"/>
          </a:xfrm>
          <a:custGeom>
            <a:avLst/>
            <a:gdLst>
              <a:gd name="textAreaLeft" fmla="*/ 270000 w 1214280"/>
              <a:gd name="textAreaRight" fmla="*/ 944280 w 1214280"/>
              <a:gd name="textAreaTop" fmla="*/ 141480 h 714240"/>
              <a:gd name="textAreaBottom" fmla="*/ 537840 h 714240"/>
            </a:gdLst>
            <a:ahLst/>
            <a:rect l="textAreaLeft" t="textAreaTop" r="textAreaRight" b="textAreaBottom"/>
            <a:pathLst>
              <a:path w="1214438" h="714375">
                <a:moveTo>
                  <a:pt x="-3" y="459419"/>
                </a:moveTo>
                <a:lnTo>
                  <a:pt x="187009" y="317929"/>
                </a:lnTo>
                <a:lnTo>
                  <a:pt x="120267" y="141491"/>
                </a:lnTo>
                <a:lnTo>
                  <a:pt x="420210" y="141492"/>
                </a:lnTo>
                <a:lnTo>
                  <a:pt x="607219" y="0"/>
                </a:lnTo>
                <a:lnTo>
                  <a:pt x="794228" y="141492"/>
                </a:lnTo>
                <a:lnTo>
                  <a:pt x="1094171" y="141491"/>
                </a:lnTo>
                <a:lnTo>
                  <a:pt x="1027429" y="317929"/>
                </a:lnTo>
                <a:lnTo>
                  <a:pt x="1214441" y="459419"/>
                </a:lnTo>
                <a:lnTo>
                  <a:pt x="944200" y="537941"/>
                </a:lnTo>
                <a:lnTo>
                  <a:pt x="877455" y="714379"/>
                </a:lnTo>
                <a:lnTo>
                  <a:pt x="607219" y="635856"/>
                </a:lnTo>
                <a:lnTo>
                  <a:pt x="336983" y="714379"/>
                </a:lnTo>
                <a:lnTo>
                  <a:pt x="270238" y="537941"/>
                </a:lnTo>
                <a:close/>
              </a:path>
            </a:pathLst>
          </a:custGeom>
          <a:solidFill>
            <a:srgbClr val="f7964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-Point Star 69"/>
          <p:cNvSpPr/>
          <p:nvPr/>
        </p:nvSpPr>
        <p:spPr>
          <a:xfrm>
            <a:off x="7429680" y="1785960"/>
            <a:ext cx="928440" cy="785880"/>
          </a:xfrm>
          <a:custGeom>
            <a:avLst/>
            <a:gdLst>
              <a:gd name="textAreaLeft" fmla="*/ 206640 w 928440"/>
              <a:gd name="textAreaRight" fmla="*/ 721800 w 928440"/>
              <a:gd name="textAreaTop" fmla="*/ 155520 h 785880"/>
              <a:gd name="textAreaBottom" fmla="*/ 591840 h 785880"/>
            </a:gdLst>
            <a:ahLst/>
            <a:rect l="textAreaLeft" t="textAreaTop" r="textAreaRight" b="textAreaBottom"/>
            <a:pathLst>
              <a:path w="928688" h="785812">
                <a:moveTo>
                  <a:pt x="-2" y="505361"/>
                </a:moveTo>
                <a:lnTo>
                  <a:pt x="143007" y="349721"/>
                </a:lnTo>
                <a:lnTo>
                  <a:pt x="91969" y="155640"/>
                </a:lnTo>
                <a:lnTo>
                  <a:pt x="321337" y="155641"/>
                </a:lnTo>
                <a:lnTo>
                  <a:pt x="464344" y="0"/>
                </a:lnTo>
                <a:lnTo>
                  <a:pt x="607351" y="155641"/>
                </a:lnTo>
                <a:lnTo>
                  <a:pt x="836719" y="155640"/>
                </a:lnTo>
                <a:lnTo>
                  <a:pt x="785681" y="349721"/>
                </a:lnTo>
                <a:lnTo>
                  <a:pt x="928690" y="505361"/>
                </a:lnTo>
                <a:lnTo>
                  <a:pt x="722035" y="591735"/>
                </a:lnTo>
                <a:lnTo>
                  <a:pt x="670995" y="785816"/>
                </a:lnTo>
                <a:lnTo>
                  <a:pt x="464344" y="699441"/>
                </a:lnTo>
                <a:lnTo>
                  <a:pt x="257693" y="785816"/>
                </a:lnTo>
                <a:lnTo>
                  <a:pt x="206653" y="591735"/>
                </a:lnTo>
                <a:close/>
              </a:path>
            </a:pathLst>
          </a:custGeom>
          <a:solidFill>
            <a:srgbClr val="f7964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7-Point Star 70"/>
          <p:cNvSpPr/>
          <p:nvPr/>
        </p:nvSpPr>
        <p:spPr>
          <a:xfrm>
            <a:off x="7643880" y="2714760"/>
            <a:ext cx="1143000" cy="857160"/>
          </a:xfrm>
          <a:custGeom>
            <a:avLst/>
            <a:gdLst>
              <a:gd name="textAreaLeft" fmla="*/ 254160 w 1143000"/>
              <a:gd name="textAreaRight" fmla="*/ 888840 w 1143000"/>
              <a:gd name="textAreaTop" fmla="*/ 169560 h 857160"/>
              <a:gd name="textAreaBottom" fmla="*/ 645480 h 857160"/>
            </a:gdLst>
            <a:ahLst/>
            <a:rect l="textAreaLeft" t="textAreaTop" r="textAreaRight" b="textAreaBottom"/>
            <a:pathLst>
              <a:path w="1143000" h="857250">
                <a:moveTo>
                  <a:pt x="-3" y="551303"/>
                </a:moveTo>
                <a:lnTo>
                  <a:pt x="176008" y="381514"/>
                </a:lnTo>
                <a:lnTo>
                  <a:pt x="113192" y="169790"/>
                </a:lnTo>
                <a:lnTo>
                  <a:pt x="395492" y="169790"/>
                </a:lnTo>
                <a:lnTo>
                  <a:pt x="571500" y="0"/>
                </a:lnTo>
                <a:lnTo>
                  <a:pt x="747508" y="169790"/>
                </a:lnTo>
                <a:lnTo>
                  <a:pt x="1029808" y="169790"/>
                </a:lnTo>
                <a:lnTo>
                  <a:pt x="966992" y="381514"/>
                </a:lnTo>
                <a:lnTo>
                  <a:pt x="1143003" y="551303"/>
                </a:lnTo>
                <a:lnTo>
                  <a:pt x="888658" y="645529"/>
                </a:lnTo>
                <a:lnTo>
                  <a:pt x="825840" y="857255"/>
                </a:lnTo>
                <a:lnTo>
                  <a:pt x="571500" y="763027"/>
                </a:lnTo>
                <a:lnTo>
                  <a:pt x="317160" y="857255"/>
                </a:lnTo>
                <a:lnTo>
                  <a:pt x="254342" y="64552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ular Callout 71"/>
          <p:cNvSpPr/>
          <p:nvPr/>
        </p:nvSpPr>
        <p:spPr>
          <a:xfrm>
            <a:off x="5786280" y="5214960"/>
            <a:ext cx="121464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ular Callout 72"/>
          <p:cNvSpPr/>
          <p:nvPr/>
        </p:nvSpPr>
        <p:spPr>
          <a:xfrm>
            <a:off x="7500960" y="5429160"/>
            <a:ext cx="1285920" cy="714600"/>
          </a:xfrm>
          <a:prstGeom prst="wedgeRoundRectCallout">
            <a:avLst>
              <a:gd name="adj1" fmla="val -34166"/>
              <a:gd name="adj2" fmla="val 84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ular Callout 73"/>
          <p:cNvSpPr/>
          <p:nvPr/>
        </p:nvSpPr>
        <p:spPr>
          <a:xfrm>
            <a:off x="7429680" y="4357800"/>
            <a:ext cx="1285560" cy="571320"/>
          </a:xfrm>
          <a:prstGeom prst="wedgeRoundRectCallout">
            <a:avLst>
              <a:gd name="adj1" fmla="val 74722"/>
              <a:gd name="adj2" fmla="val 2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sosceles Triangle 74"/>
          <p:cNvSpPr/>
          <p:nvPr/>
        </p:nvSpPr>
        <p:spPr>
          <a:xfrm>
            <a:off x="428760" y="5000760"/>
            <a:ext cx="1428480" cy="10713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sosceles Triangle 75"/>
          <p:cNvSpPr/>
          <p:nvPr/>
        </p:nvSpPr>
        <p:spPr>
          <a:xfrm>
            <a:off x="1857240" y="557208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sosceles Triangle 76"/>
          <p:cNvSpPr/>
          <p:nvPr/>
        </p:nvSpPr>
        <p:spPr>
          <a:xfrm>
            <a:off x="3286080" y="5357880"/>
            <a:ext cx="1428840" cy="10713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5. The next step is to include different fonts/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ontent Placeholder 14"/>
          <p:cNvSpPr/>
          <p:nvPr/>
        </p:nvSpPr>
        <p:spPr>
          <a:xfrm>
            <a:off x="2857680" y="2071800"/>
            <a:ext cx="2643120" cy="928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21"/>
          <p:cNvCxnSpPr>
            <a:stCxn id="149" idx="0"/>
          </p:cNvCxnSpPr>
          <p:nvPr/>
        </p:nvCxnSpPr>
        <p:spPr>
          <a:xfrm flipH="1" flipV="1">
            <a:off x="4142520" y="1785240"/>
            <a:ext cx="3564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Straight Arrow Connector 22"/>
          <p:cNvCxnSpPr>
            <a:stCxn id="149" idx="1"/>
          </p:cNvCxnSpPr>
          <p:nvPr/>
        </p:nvCxnSpPr>
        <p:spPr>
          <a:xfrm flipH="1" flipV="1">
            <a:off x="2615400" y="2355120"/>
            <a:ext cx="25020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Straight Arrow Connector 23"/>
          <p:cNvCxnSpPr>
            <a:stCxn id="149" idx="2"/>
          </p:cNvCxnSpPr>
          <p:nvPr/>
        </p:nvCxnSpPr>
        <p:spPr>
          <a:xfrm flipH="1">
            <a:off x="4142520" y="2998440"/>
            <a:ext cx="3564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Straight Arrow Connector 24"/>
          <p:cNvCxnSpPr/>
          <p:nvPr/>
        </p:nvCxnSpPr>
        <p:spPr>
          <a:xfrm>
            <a:off x="5285880" y="2714400"/>
            <a:ext cx="5007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Straight Arrow Connector 25"/>
          <p:cNvCxnSpPr/>
          <p:nvPr/>
        </p:nvCxnSpPr>
        <p:spPr>
          <a:xfrm flipV="1">
            <a:off x="5286240" y="2071080"/>
            <a:ext cx="2865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Up Ribbon 32"/>
          <p:cNvSpPr/>
          <p:nvPr/>
        </p:nvSpPr>
        <p:spPr>
          <a:xfrm>
            <a:off x="1428840" y="3500280"/>
            <a:ext cx="3571920" cy="500400"/>
          </a:xfrm>
          <a:custGeom>
            <a:avLst/>
            <a:gdLst>
              <a:gd name="textAreaLeft" fmla="*/ 892800 w 3571920"/>
              <a:gd name="textAreaRight" fmla="*/ 2679120 w 3571920"/>
              <a:gd name="textAreaTop" fmla="*/ 0 h 500400"/>
              <a:gd name="textAreaBottom" fmla="*/ 417240 h 5004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ave 33"/>
          <p:cNvSpPr/>
          <p:nvPr/>
        </p:nvSpPr>
        <p:spPr>
          <a:xfrm>
            <a:off x="5715000" y="2714760"/>
            <a:ext cx="1928880" cy="642960"/>
          </a:xfrm>
          <a:custGeom>
            <a:avLst/>
            <a:gdLst>
              <a:gd name="textAreaLeft" fmla="*/ 0 w 1928880"/>
              <a:gd name="textAreaRight" fmla="*/ 1929240 w 192888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34"/>
          <p:cNvCxnSpPr>
            <a:stCxn id="156" idx="0"/>
          </p:cNvCxnSpPr>
          <p:nvPr/>
        </p:nvCxnSpPr>
        <p:spPr>
          <a:xfrm flipV="1">
            <a:off x="6679080" y="2214720"/>
            <a:ext cx="607320" cy="5814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8" name="Straight Arrow Connector 35"/>
          <p:cNvCxnSpPr/>
          <p:nvPr/>
        </p:nvCxnSpPr>
        <p:spPr>
          <a:xfrm>
            <a:off x="6714720" y="3357720"/>
            <a:ext cx="71532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9" name="Straight Arrow Connector 36"/>
          <p:cNvCxnSpPr/>
          <p:nvPr/>
        </p:nvCxnSpPr>
        <p:spPr>
          <a:xfrm>
            <a:off x="6071040" y="3286080"/>
            <a:ext cx="7236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0" name="Straight Arrow Connector 37"/>
          <p:cNvCxnSpPr/>
          <p:nvPr/>
        </p:nvCxnSpPr>
        <p:spPr>
          <a:xfrm flipH="1" flipV="1">
            <a:off x="1642680" y="2999880"/>
            <a:ext cx="286560" cy="5724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1" name="Straight Arrow Connector 38"/>
          <p:cNvCxnSpPr/>
          <p:nvPr/>
        </p:nvCxnSpPr>
        <p:spPr>
          <a:xfrm flipH="1">
            <a:off x="1714320" y="3927960"/>
            <a:ext cx="1000800" cy="8578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2" name="Straight Arrow Connector 39"/>
          <p:cNvCxnSpPr/>
          <p:nvPr/>
        </p:nvCxnSpPr>
        <p:spPr>
          <a:xfrm>
            <a:off x="3786120" y="4071600"/>
            <a:ext cx="215280" cy="7866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163" name="Isosceles Triangle 43"/>
          <p:cNvSpPr/>
          <p:nvPr/>
        </p:nvSpPr>
        <p:spPr>
          <a:xfrm>
            <a:off x="285840" y="1643040"/>
            <a:ext cx="1714320" cy="135720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urlz MT"/>
              </a:rPr>
              <a:t>M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sosceles Triangle 44"/>
          <p:cNvSpPr/>
          <p:nvPr/>
        </p:nvSpPr>
        <p:spPr>
          <a:xfrm>
            <a:off x="571680" y="4500720"/>
            <a:ext cx="1928520" cy="121428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urlz MT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45"/>
          <p:cNvSpPr/>
          <p:nvPr/>
        </p:nvSpPr>
        <p:spPr>
          <a:xfrm>
            <a:off x="2928960" y="4643280"/>
            <a:ext cx="2571840" cy="142884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urlz MT"/>
              </a:rPr>
              <a:t>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ular Callout 50"/>
          <p:cNvSpPr/>
          <p:nvPr/>
        </p:nvSpPr>
        <p:spPr>
          <a:xfrm>
            <a:off x="5500800" y="392904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H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7429680" y="385776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School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ular Callout 52"/>
          <p:cNvSpPr/>
          <p:nvPr/>
        </p:nvSpPr>
        <p:spPr>
          <a:xfrm>
            <a:off x="7143840" y="142884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xplosion 1 7"/>
          <p:cNvSpPr/>
          <p:nvPr/>
        </p:nvSpPr>
        <p:spPr>
          <a:xfrm>
            <a:off x="5715000" y="857160"/>
            <a:ext cx="3643200" cy="350064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Bradley Hand ITC"/>
              </a:rPr>
              <a:t>Sci-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xplosion 1 8"/>
          <p:cNvSpPr/>
          <p:nvPr/>
        </p:nvSpPr>
        <p:spPr>
          <a:xfrm>
            <a:off x="3000240" y="1071720"/>
            <a:ext cx="2928960" cy="27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Bradley Hand ITC"/>
              </a:rPr>
              <a:t>Fan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6. Make sure that you include appropriate im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21960" y="4693320"/>
            <a:ext cx="1557360" cy="122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Straight Arrow Connector 4"/>
          <p:cNvCxnSpPr/>
          <p:nvPr/>
        </p:nvCxnSpPr>
        <p:spPr>
          <a:xfrm flipV="1">
            <a:off x="6320520" y="3499560"/>
            <a:ext cx="680040" cy="114372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74" name="Straight Arrow Connector 5"/>
          <p:cNvCxnSpPr/>
          <p:nvPr/>
        </p:nvCxnSpPr>
        <p:spPr>
          <a:xfrm flipH="1" flipV="1">
            <a:off x="5285520" y="3285720"/>
            <a:ext cx="786600" cy="135792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75" name="Straight Arrow Connector 6"/>
          <p:cNvCxnSpPr/>
          <p:nvPr/>
        </p:nvCxnSpPr>
        <p:spPr>
          <a:xfrm flipH="1">
            <a:off x="3214440" y="4929120"/>
            <a:ext cx="2286720" cy="35784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176" name="Explosion 1 9"/>
          <p:cNvSpPr/>
          <p:nvPr/>
        </p:nvSpPr>
        <p:spPr>
          <a:xfrm>
            <a:off x="285840" y="1857240"/>
            <a:ext cx="3643200" cy="45720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Bradley Hand ITC"/>
              </a:rPr>
              <a:t>Ro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Documents and Settings\08640585\Local Settings\Temporary Internet Files\Content.IE5\Z58XTW8X\MPj04450530000[1].jpg"/>
          <p:cNvPicPr/>
          <p:nvPr/>
        </p:nvPicPr>
        <p:blipFill>
          <a:blip r:embed="rId1"/>
          <a:stretch/>
        </p:blipFill>
        <p:spPr>
          <a:xfrm>
            <a:off x="3857760" y="2500200"/>
            <a:ext cx="1189080" cy="1540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08640585\Local Settings\Temporary Internet Files\Content.IE5\Z58XTW8X\MPj04447800000[1].jpg"/>
          <p:cNvPicPr/>
          <p:nvPr/>
        </p:nvPicPr>
        <p:blipFill>
          <a:blip r:embed="rId2"/>
          <a:stretch/>
        </p:blipFill>
        <p:spPr>
          <a:xfrm>
            <a:off x="1428840" y="4214880"/>
            <a:ext cx="1346040" cy="1743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08640585\Local Settings\Temporary Internet Files\Content.IE5\ZDF5TRMN\MCj04298210000[1].wmf"/>
          <p:cNvPicPr/>
          <p:nvPr/>
        </p:nvPicPr>
        <p:blipFill>
          <a:blip r:embed="rId3"/>
          <a:stretch/>
        </p:blipFill>
        <p:spPr>
          <a:xfrm>
            <a:off x="6715080" y="2571840"/>
            <a:ext cx="15336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, your mind-map should end up looking something like thi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08640585\Local Settings\Temporary Internet Files\Content.IE5\0RNNBOX9\MCj04377970000[1].wmf"/>
          <p:cNvPicPr/>
          <p:nvPr/>
        </p:nvPicPr>
        <p:blipFill>
          <a:blip r:embed="rId2"/>
          <a:stretch/>
        </p:blipFill>
        <p:spPr>
          <a:xfrm>
            <a:off x="2357280" y="1438200"/>
            <a:ext cx="47865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ontent Placeholder 14"/>
          <p:cNvSpPr/>
          <p:nvPr/>
        </p:nvSpPr>
        <p:spPr>
          <a:xfrm>
            <a:off x="2928960" y="3357720"/>
            <a:ext cx="2643120" cy="928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own Ribbon 14"/>
          <p:cNvSpPr/>
          <p:nvPr/>
        </p:nvSpPr>
        <p:spPr>
          <a:xfrm>
            <a:off x="2714760" y="2571840"/>
            <a:ext cx="2714400" cy="428400"/>
          </a:xfrm>
          <a:custGeom>
            <a:avLst/>
            <a:gdLst>
              <a:gd name="textAreaLeft" fmla="*/ 678600 w 2714400"/>
              <a:gd name="textAreaRight" fmla="*/ 2035800 w 2714400"/>
              <a:gd name="textAreaTop" fmla="*/ 7128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rved Up Ribbon 15"/>
          <p:cNvSpPr/>
          <p:nvPr/>
        </p:nvSpPr>
        <p:spPr>
          <a:xfrm>
            <a:off x="1000080" y="2786040"/>
            <a:ext cx="1928880" cy="1500120"/>
          </a:xfrm>
          <a:custGeom>
            <a:avLst/>
            <a:gdLst>
              <a:gd name="textAreaLeft" fmla="*/ 482040 w 1928880"/>
              <a:gd name="textAreaRight" fmla="*/ 1446840 w 1928880"/>
              <a:gd name="textAreaTop" fmla="*/ 44280 h 1500120"/>
              <a:gd name="textAreaBottom" fmla="*/ 1125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Horizontal Scroll 16"/>
          <p:cNvSpPr/>
          <p:nvPr/>
        </p:nvSpPr>
        <p:spPr>
          <a:xfrm>
            <a:off x="5643720" y="2357280"/>
            <a:ext cx="1428480" cy="1500480"/>
          </a:xfrm>
          <a:prstGeom prst="horizontalScroll">
            <a:avLst>
              <a:gd name="adj" fmla="val 1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Up Ribbon 17"/>
          <p:cNvSpPr/>
          <p:nvPr/>
        </p:nvSpPr>
        <p:spPr>
          <a:xfrm>
            <a:off x="1285920" y="4643280"/>
            <a:ext cx="3571920" cy="500400"/>
          </a:xfrm>
          <a:custGeom>
            <a:avLst/>
            <a:gdLst>
              <a:gd name="textAreaLeft" fmla="*/ 892800 w 3571920"/>
              <a:gd name="textAreaRight" fmla="*/ 2679120 w 3571920"/>
              <a:gd name="textAreaTop" fmla="*/ 0 h 500400"/>
              <a:gd name="textAreaBottom" fmla="*/ 417240 h 5004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ave 18"/>
          <p:cNvSpPr/>
          <p:nvPr/>
        </p:nvSpPr>
        <p:spPr>
          <a:xfrm>
            <a:off x="5572080" y="3929040"/>
            <a:ext cx="1928880" cy="642960"/>
          </a:xfrm>
          <a:custGeom>
            <a:avLst/>
            <a:gdLst>
              <a:gd name="textAreaLeft" fmla="*/ 0 w 1928880"/>
              <a:gd name="textAreaRight" fmla="*/ 1929240 w 192888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19"/>
          <p:cNvCxnSpPr>
            <a:stCxn id="184" idx="0"/>
          </p:cNvCxnSpPr>
          <p:nvPr/>
        </p:nvCxnSpPr>
        <p:spPr>
          <a:xfrm flipH="1" flipV="1">
            <a:off x="4214160" y="3071160"/>
            <a:ext cx="35640" cy="338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0"/>
          <p:cNvCxnSpPr>
            <a:stCxn id="184" idx="1"/>
            <a:endCxn id="186" idx="0"/>
          </p:cNvCxnSpPr>
          <p:nvPr/>
        </p:nvCxnSpPr>
        <p:spPr>
          <a:xfrm flipH="1" flipV="1">
            <a:off x="2687400" y="3641040"/>
            <a:ext cx="249840" cy="18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21"/>
          <p:cNvCxnSpPr>
            <a:stCxn id="184" idx="2"/>
          </p:cNvCxnSpPr>
          <p:nvPr/>
        </p:nvCxnSpPr>
        <p:spPr>
          <a:xfrm flipH="1">
            <a:off x="4214160" y="4284360"/>
            <a:ext cx="35640" cy="501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Straight Arrow Connector 22"/>
          <p:cNvCxnSpPr>
            <a:endCxn id="189" idx="1"/>
          </p:cNvCxnSpPr>
          <p:nvPr/>
        </p:nvCxnSpPr>
        <p:spPr>
          <a:xfrm>
            <a:off x="5143680" y="4071960"/>
            <a:ext cx="429120" cy="180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Straight Arrow Connector 23"/>
          <p:cNvCxnSpPr/>
          <p:nvPr/>
        </p:nvCxnSpPr>
        <p:spPr>
          <a:xfrm flipV="1">
            <a:off x="5357880" y="3357360"/>
            <a:ext cx="286560" cy="143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Straight Arrow Connector 24"/>
          <p:cNvCxnSpPr>
            <a:endCxn id="196" idx="7"/>
          </p:cNvCxnSpPr>
          <p:nvPr/>
        </p:nvCxnSpPr>
        <p:spPr>
          <a:xfrm flipV="1">
            <a:off x="6143760" y="2071080"/>
            <a:ext cx="437040" cy="500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97" name="Straight Arrow Connector 25"/>
          <p:cNvCxnSpPr/>
          <p:nvPr/>
        </p:nvCxnSpPr>
        <p:spPr>
          <a:xfrm flipV="1">
            <a:off x="7072200" y="1428480"/>
            <a:ext cx="858240" cy="12866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98" name="Straight Arrow Connector 26"/>
          <p:cNvCxnSpPr>
            <a:stCxn id="187" idx="3"/>
          </p:cNvCxnSpPr>
          <p:nvPr/>
        </p:nvCxnSpPr>
        <p:spPr>
          <a:xfrm>
            <a:off x="7072200" y="3108240"/>
            <a:ext cx="572400" cy="1782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99" name="Straight Arrow Connector 27"/>
          <p:cNvCxnSpPr>
            <a:stCxn id="189" idx="3"/>
          </p:cNvCxnSpPr>
          <p:nvPr/>
        </p:nvCxnSpPr>
        <p:spPr>
          <a:xfrm>
            <a:off x="7500960" y="4250880"/>
            <a:ext cx="286560" cy="35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0" name="Straight Arrow Connector 28"/>
          <p:cNvCxnSpPr/>
          <p:nvPr/>
        </p:nvCxnSpPr>
        <p:spPr>
          <a:xfrm>
            <a:off x="6356880" y="4500360"/>
            <a:ext cx="50076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1" name="Straight Arrow Connector 29"/>
          <p:cNvCxnSpPr/>
          <p:nvPr/>
        </p:nvCxnSpPr>
        <p:spPr>
          <a:xfrm>
            <a:off x="5713920" y="4500360"/>
            <a:ext cx="214920" cy="2862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2" name="Straight Arrow Connector 30"/>
          <p:cNvCxnSpPr/>
          <p:nvPr/>
        </p:nvCxnSpPr>
        <p:spPr>
          <a:xfrm flipH="1">
            <a:off x="1499400" y="5213880"/>
            <a:ext cx="429480" cy="3229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203" name="Straight Arrow Connector 31"/>
          <p:cNvCxnSpPr>
            <a:endCxn id="204" idx="5"/>
          </p:cNvCxnSpPr>
          <p:nvPr/>
        </p:nvCxnSpPr>
        <p:spPr>
          <a:xfrm flipH="1">
            <a:off x="2285640" y="5071680"/>
            <a:ext cx="572400" cy="12517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205" name="Straight Arrow Connector 32"/>
          <p:cNvCxnSpPr/>
          <p:nvPr/>
        </p:nvCxnSpPr>
        <p:spPr>
          <a:xfrm>
            <a:off x="3500280" y="5143320"/>
            <a:ext cx="286560" cy="8578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206" name="Straight Arrow Connector 33"/>
          <p:cNvCxnSpPr>
            <a:stCxn id="186" idx="1"/>
          </p:cNvCxnSpPr>
          <p:nvPr/>
        </p:nvCxnSpPr>
        <p:spPr>
          <a:xfrm flipV="1">
            <a:off x="1963800" y="1213920"/>
            <a:ext cx="645120" cy="15724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207" name="Straight Arrow Connector 34"/>
          <p:cNvCxnSpPr/>
          <p:nvPr/>
        </p:nvCxnSpPr>
        <p:spPr>
          <a:xfrm flipH="1" flipV="1">
            <a:off x="1642320" y="856440"/>
            <a:ext cx="72360" cy="200124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208" name="Straight Arrow Connector 35"/>
          <p:cNvCxnSpPr/>
          <p:nvPr/>
        </p:nvCxnSpPr>
        <p:spPr>
          <a:xfrm flipH="1" flipV="1">
            <a:off x="1071360" y="2428920"/>
            <a:ext cx="72000" cy="64332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209" name="Straight Arrow Connector 36"/>
          <p:cNvCxnSpPr/>
          <p:nvPr/>
        </p:nvCxnSpPr>
        <p:spPr>
          <a:xfrm flipV="1">
            <a:off x="5000760" y="2071080"/>
            <a:ext cx="25092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10" name="Straight Arrow Connector 37"/>
          <p:cNvCxnSpPr>
            <a:stCxn id="185" idx="0"/>
          </p:cNvCxnSpPr>
          <p:nvPr/>
        </p:nvCxnSpPr>
        <p:spPr>
          <a:xfrm flipV="1">
            <a:off x="4070880" y="713880"/>
            <a:ext cx="429480" cy="19296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11" name="Straight Arrow Connector 38"/>
          <p:cNvCxnSpPr/>
          <p:nvPr/>
        </p:nvCxnSpPr>
        <p:spPr>
          <a:xfrm flipH="1" flipV="1">
            <a:off x="3499920" y="1928520"/>
            <a:ext cx="215280" cy="714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212" name="Explosion 1 44"/>
          <p:cNvSpPr/>
          <p:nvPr/>
        </p:nvSpPr>
        <p:spPr>
          <a:xfrm>
            <a:off x="214200" y="142920"/>
            <a:ext cx="184320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Bradley Hand ITC"/>
              </a:rPr>
              <a:t>Fan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xplosion 1 45"/>
          <p:cNvSpPr/>
          <p:nvPr/>
        </p:nvSpPr>
        <p:spPr>
          <a:xfrm>
            <a:off x="0" y="1357200"/>
            <a:ext cx="2000160" cy="128592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Bradley Hand ITC"/>
              </a:rPr>
              <a:t>Ro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xplosion 1 46"/>
          <p:cNvSpPr/>
          <p:nvPr/>
        </p:nvSpPr>
        <p:spPr>
          <a:xfrm>
            <a:off x="2000160" y="285840"/>
            <a:ext cx="150012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Bradley Hand ITC"/>
              </a:rPr>
              <a:t>Sci-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08640585\Local Settings\Temporary Internet Files\Content.IE5\Z58XTW8X\MPj04447800000[1].jpg"/>
          <p:cNvPicPr/>
          <p:nvPr/>
        </p:nvPicPr>
        <p:blipFill>
          <a:blip r:embed="rId1"/>
          <a:stretch/>
        </p:blipFill>
        <p:spPr>
          <a:xfrm>
            <a:off x="214200" y="2286000"/>
            <a:ext cx="703440" cy="933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08640585\Local Settings\Temporary Internet Files\Content.IE5\Z58XTW8X\MPj04450530000[1].jpg"/>
          <p:cNvPicPr/>
          <p:nvPr/>
        </p:nvPicPr>
        <p:blipFill>
          <a:blip r:embed="rId2"/>
          <a:stretch/>
        </p:blipFill>
        <p:spPr>
          <a:xfrm>
            <a:off x="785880" y="714240"/>
            <a:ext cx="571320" cy="739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08640585\Local Settings\Temporary Internet Files\Content.IE5\ZDF5TRMN\MCj04298210000[1].wmf"/>
          <p:cNvPicPr/>
          <p:nvPr/>
        </p:nvPicPr>
        <p:blipFill>
          <a:blip r:embed="rId3"/>
          <a:stretch/>
        </p:blipFill>
        <p:spPr>
          <a:xfrm>
            <a:off x="1785960" y="785880"/>
            <a:ext cx="747720" cy="871560"/>
          </a:xfrm>
          <a:prstGeom prst="rect">
            <a:avLst/>
          </a:prstGeom>
          <a:ln w="0">
            <a:noFill/>
          </a:ln>
        </p:spPr>
      </p:pic>
      <p:sp>
        <p:nvSpPr>
          <p:cNvPr id="218" name="Rounded Rectangular Callout 57"/>
          <p:cNvSpPr/>
          <p:nvPr/>
        </p:nvSpPr>
        <p:spPr>
          <a:xfrm>
            <a:off x="4929120" y="4786200"/>
            <a:ext cx="1214640" cy="71460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H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ular Callout 58"/>
          <p:cNvSpPr/>
          <p:nvPr/>
        </p:nvSpPr>
        <p:spPr>
          <a:xfrm>
            <a:off x="6286680" y="507204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School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ular Callout 59"/>
          <p:cNvSpPr/>
          <p:nvPr/>
        </p:nvSpPr>
        <p:spPr>
          <a:xfrm>
            <a:off x="7786800" y="400068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sosceles Triangle 66"/>
          <p:cNvSpPr/>
          <p:nvPr/>
        </p:nvSpPr>
        <p:spPr>
          <a:xfrm>
            <a:off x="0" y="5000760"/>
            <a:ext cx="1714680" cy="71424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urlz MT"/>
              </a:rPr>
              <a:t>M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sosceles Triangle 67"/>
          <p:cNvSpPr/>
          <p:nvPr/>
        </p:nvSpPr>
        <p:spPr>
          <a:xfrm>
            <a:off x="1000080" y="6000840"/>
            <a:ext cx="1714680" cy="6429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urlz MT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68"/>
          <p:cNvSpPr/>
          <p:nvPr/>
        </p:nvSpPr>
        <p:spPr>
          <a:xfrm>
            <a:off x="2928960" y="5857920"/>
            <a:ext cx="2286000" cy="78588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urlz MT"/>
              </a:rPr>
              <a:t>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1"/>
          <p:cNvSpPr/>
          <p:nvPr/>
        </p:nvSpPr>
        <p:spPr>
          <a:xfrm>
            <a:off x="2857680" y="121428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hiller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2"/>
          <p:cNvSpPr/>
          <p:nvPr/>
        </p:nvSpPr>
        <p:spPr>
          <a:xfrm>
            <a:off x="3929040" y="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hiller"/>
              </a:rPr>
              <a:t>Country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3"/>
          <p:cNvSpPr/>
          <p:nvPr/>
        </p:nvSpPr>
        <p:spPr>
          <a:xfrm>
            <a:off x="4786200" y="1285920"/>
            <a:ext cx="135756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hiller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-Point Star 76"/>
          <p:cNvSpPr/>
          <p:nvPr/>
        </p:nvSpPr>
        <p:spPr>
          <a:xfrm>
            <a:off x="6143760" y="714240"/>
            <a:ext cx="1571400" cy="1357560"/>
          </a:xfrm>
          <a:prstGeom prst="pie">
            <a:avLst/>
          </a:prstGeom>
          <a:solidFill>
            <a:srgbClr val="f7964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Script MT Bold"/>
              </a:rPr>
              <a:t>Text under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7-Point Star 77"/>
          <p:cNvSpPr/>
          <p:nvPr/>
        </p:nvSpPr>
        <p:spPr>
          <a:xfrm>
            <a:off x="7643880" y="428760"/>
            <a:ext cx="1500120" cy="1214280"/>
          </a:xfrm>
          <a:prstGeom prst="pie">
            <a:avLst/>
          </a:prstGeom>
          <a:solidFill>
            <a:srgbClr val="f7964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Script MT Bold"/>
              </a:rPr>
              <a:t>Same sized pa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-Point Star 78"/>
          <p:cNvSpPr/>
          <p:nvPr/>
        </p:nvSpPr>
        <p:spPr>
          <a:xfrm>
            <a:off x="7429680" y="2786040"/>
            <a:ext cx="1500120" cy="1071720"/>
          </a:xfrm>
          <a:custGeom>
            <a:avLst/>
            <a:gdLst>
              <a:gd name="textAreaLeft" fmla="*/ 333720 w 1500120"/>
              <a:gd name="textAreaRight" fmla="*/ 1166400 w 1500120"/>
              <a:gd name="textAreaTop" fmla="*/ 212040 h 1071720"/>
              <a:gd name="textAreaBottom" fmla="*/ 807120 h 1071720"/>
            </a:gdLst>
            <a:ahLst/>
            <a:rect l="textAreaLeft" t="textAreaTop" r="textAreaRight" b="textAreaBottom"/>
            <a:pathLst>
              <a:path w="1500188" h="1071562">
                <a:moveTo>
                  <a:pt x="-4" y="689129"/>
                </a:moveTo>
                <a:lnTo>
                  <a:pt x="231011" y="476893"/>
                </a:lnTo>
                <a:lnTo>
                  <a:pt x="148565" y="212237"/>
                </a:lnTo>
                <a:lnTo>
                  <a:pt x="519083" y="212237"/>
                </a:lnTo>
                <a:lnTo>
                  <a:pt x="750094" y="0"/>
                </a:lnTo>
                <a:lnTo>
                  <a:pt x="981105" y="212237"/>
                </a:lnTo>
                <a:lnTo>
                  <a:pt x="1351623" y="212237"/>
                </a:lnTo>
                <a:lnTo>
                  <a:pt x="1269177" y="476893"/>
                </a:lnTo>
                <a:lnTo>
                  <a:pt x="1500192" y="689129"/>
                </a:lnTo>
                <a:lnTo>
                  <a:pt x="1166364" y="806911"/>
                </a:lnTo>
                <a:lnTo>
                  <a:pt x="1083915" y="1071568"/>
                </a:lnTo>
                <a:lnTo>
                  <a:pt x="750094" y="953784"/>
                </a:lnTo>
                <a:lnTo>
                  <a:pt x="416273" y="1071568"/>
                </a:lnTo>
                <a:lnTo>
                  <a:pt x="333824" y="806911"/>
                </a:lnTo>
                <a:close/>
              </a:path>
            </a:pathLst>
          </a:custGeom>
          <a:solidFill>
            <a:srgbClr val="f7964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Documents and Settings\08640585\Local Settings\Temporary Internet Files\Content.IE5\4QM5E9MC\MCj04405660000[1].png"/>
          <p:cNvPicPr/>
          <p:nvPr/>
        </p:nvPicPr>
        <p:blipFill>
          <a:blip r:embed="rId4"/>
          <a:stretch/>
        </p:blipFill>
        <p:spPr>
          <a:xfrm>
            <a:off x="214200" y="4286160"/>
            <a:ext cx="1032120" cy="1032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Documents and Settings\08640585\Local Settings\Temporary Internet Files\Content.IE5\FEWHSZO6\MCED00007_0000[1].wmf"/>
          <p:cNvPicPr/>
          <p:nvPr/>
        </p:nvPicPr>
        <p:blipFill>
          <a:blip r:embed="rId5"/>
          <a:stretch/>
        </p:blipFill>
        <p:spPr>
          <a:xfrm>
            <a:off x="2571840" y="5786280"/>
            <a:ext cx="693720" cy="860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08640585\Local Settings\Temporary Internet Files\Content.IE5\ZU7XTM1I\MCj03789490000[1].wmf"/>
          <p:cNvPicPr/>
          <p:nvPr/>
        </p:nvPicPr>
        <p:blipFill>
          <a:blip r:embed="rId6"/>
          <a:stretch/>
        </p:blipFill>
        <p:spPr>
          <a:xfrm>
            <a:off x="5357880" y="5500800"/>
            <a:ext cx="801720" cy="842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08640585\Local Settings\Temporary Internet Files\Content.IE5\FG7W5FAB\MPj04395120000[1].jpg"/>
          <p:cNvPicPr/>
          <p:nvPr/>
        </p:nvPicPr>
        <p:blipFill>
          <a:blip r:embed="rId7"/>
          <a:stretch/>
        </p:blipFill>
        <p:spPr>
          <a:xfrm>
            <a:off x="7358040" y="5429160"/>
            <a:ext cx="871560" cy="1197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08640585\Local Settings\Temporary Internet Files\Content.IE5\FEWHSZO6\MCj00832990000[1].wmf"/>
          <p:cNvPicPr/>
          <p:nvPr/>
        </p:nvPicPr>
        <p:blipFill>
          <a:blip r:embed="rId8"/>
          <a:stretch/>
        </p:blipFill>
        <p:spPr>
          <a:xfrm>
            <a:off x="8180280" y="4929120"/>
            <a:ext cx="963720" cy="979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08640585\Local Settings\Temporary Internet Files\Content.IE5\Z58XTW8X\MCj02293870000[1].wmf"/>
          <p:cNvPicPr/>
          <p:nvPr/>
        </p:nvPicPr>
        <p:blipFill>
          <a:blip r:embed="rId9"/>
          <a:stretch/>
        </p:blipFill>
        <p:spPr>
          <a:xfrm>
            <a:off x="8001000" y="1785960"/>
            <a:ext cx="903240" cy="87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08640585\Local Settings\Temporary Internet Files\Content.IE5\ZU7XTM1I\MCj02329880000[1].wmf"/>
          <p:cNvPicPr/>
          <p:nvPr/>
        </p:nvPicPr>
        <p:blipFill>
          <a:blip r:embed="rId10"/>
          <a:stretch/>
        </p:blipFill>
        <p:spPr>
          <a:xfrm>
            <a:off x="7072200" y="214200"/>
            <a:ext cx="922320" cy="916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08640585\Local Settings\Temporary Internet Files\Content.IE5\ZDF5TRMN\MPj04446330000[1].jpg"/>
          <p:cNvPicPr/>
          <p:nvPr/>
        </p:nvPicPr>
        <p:blipFill>
          <a:blip r:embed="rId11"/>
          <a:stretch/>
        </p:blipFill>
        <p:spPr>
          <a:xfrm>
            <a:off x="5429160" y="571680"/>
            <a:ext cx="685800" cy="885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08640585\Local Settings\Temporary Internet Files\Content.IE5\FEWHSZO6\MPj04394570000[1].jpg"/>
          <p:cNvPicPr/>
          <p:nvPr/>
        </p:nvPicPr>
        <p:blipFill>
          <a:blip r:embed="rId12"/>
          <a:stretch/>
        </p:blipFill>
        <p:spPr>
          <a:xfrm>
            <a:off x="2643120" y="1928880"/>
            <a:ext cx="689040" cy="691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08640585\Local Settings\Temporary Internet Files\Content.IE5\K1G95IGL\MPj04276700000[1].jpg"/>
          <p:cNvPicPr/>
          <p:nvPr/>
        </p:nvPicPr>
        <p:blipFill>
          <a:blip r:embed="rId13"/>
          <a:stretch/>
        </p:blipFill>
        <p:spPr>
          <a:xfrm>
            <a:off x="342900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C:\Documents and Settings\08640585\Local Settings\Temporary Internet Files\Content.IE5\0RNNBOX9\MCj04417560000[1].png"/>
          <p:cNvPicPr/>
          <p:nvPr/>
        </p:nvPicPr>
        <p:blipFill>
          <a:blip r:embed="rId1"/>
          <a:stretch/>
        </p:blipFill>
        <p:spPr>
          <a:xfrm>
            <a:off x="1643040" y="500040"/>
            <a:ext cx="6215040" cy="621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raphic Novel Min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Now that you have read and summarised three different graphic novels, we need to be thinking about the characteristics of a graphic nov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You need to create a mind-map with the subheadings (or ‘categories’): Characters, Setting, Genre, Illustrations, Format/Layou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1. Insert a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loud Callout 3"/>
          <p:cNvSpPr/>
          <p:nvPr/>
        </p:nvSpPr>
        <p:spPr>
          <a:xfrm>
            <a:off x="2357280" y="2857680"/>
            <a:ext cx="4286520" cy="2000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928960" y="350028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2. Insert Five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14"/>
          <p:cNvSpPr/>
          <p:nvPr/>
        </p:nvSpPr>
        <p:spPr>
          <a:xfrm>
            <a:off x="2643120" y="2786040"/>
            <a:ext cx="3900600" cy="1482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Up Ribbon 4"/>
          <p:cNvSpPr/>
          <p:nvPr/>
        </p:nvSpPr>
        <p:spPr>
          <a:xfrm>
            <a:off x="642960" y="5072040"/>
            <a:ext cx="4429080" cy="785880"/>
          </a:xfrm>
          <a:custGeom>
            <a:avLst/>
            <a:gdLst>
              <a:gd name="textAreaLeft" fmla="*/ 1107360 w 4429080"/>
              <a:gd name="textAreaRight" fmla="*/ 3322080 w 442908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Ribbon 5"/>
          <p:cNvSpPr/>
          <p:nvPr/>
        </p:nvSpPr>
        <p:spPr>
          <a:xfrm>
            <a:off x="2571840" y="1857240"/>
            <a:ext cx="3500280" cy="857520"/>
          </a:xfrm>
          <a:custGeom>
            <a:avLst/>
            <a:gdLst>
              <a:gd name="textAreaLeft" fmla="*/ 875160 w 3500280"/>
              <a:gd name="textAreaRight" fmla="*/ 2625480 w 3500280"/>
              <a:gd name="textAreaTop" fmla="*/ 14292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rved Up Ribbon 7"/>
          <p:cNvSpPr/>
          <p:nvPr/>
        </p:nvSpPr>
        <p:spPr>
          <a:xfrm>
            <a:off x="357120" y="2571840"/>
            <a:ext cx="2286000" cy="171432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50760 h 1714320"/>
              <a:gd name="textAreaBottom" fmla="*/ 1285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ave 8"/>
          <p:cNvSpPr/>
          <p:nvPr/>
        </p:nvSpPr>
        <p:spPr>
          <a:xfrm>
            <a:off x="5357880" y="5072040"/>
            <a:ext cx="2714400" cy="1000080"/>
          </a:xfrm>
          <a:custGeom>
            <a:avLst/>
            <a:gdLst>
              <a:gd name="textAreaLeft" fmla="*/ 0 w 2714400"/>
              <a:gd name="textAreaRight" fmla="*/ 2714760 w 27144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Horizontal Scroll 9"/>
          <p:cNvSpPr/>
          <p:nvPr/>
        </p:nvSpPr>
        <p:spPr>
          <a:xfrm>
            <a:off x="6643800" y="2928960"/>
            <a:ext cx="1857240" cy="18572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Documents and Settings\08640585\Local Settings\Temporary Internet Files\Content.IE5\Z58XTW8X\MCj04299350000[1].wmf"/>
          <p:cNvPicPr/>
          <p:nvPr/>
        </p:nvPicPr>
        <p:blipFill>
          <a:blip r:embed="rId1"/>
          <a:stretch/>
        </p:blipFill>
        <p:spPr>
          <a:xfrm>
            <a:off x="641520" y="257040"/>
            <a:ext cx="8073720" cy="6529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re do the stories take p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a school, a small town a particular count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ry to think of 5 of your own examples of setting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14600" y="464760"/>
            <a:ext cx="4114800" cy="9529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Documents and Settings\08640585\Local Settings\Temporary Internet Files\Content.IE5\7V3603QK\MCj04405890000[1].wmf"/>
          <p:cNvPicPr/>
          <p:nvPr/>
        </p:nvPicPr>
        <p:blipFill>
          <a:blip r:embed="rId1"/>
          <a:stretch/>
        </p:blipFill>
        <p:spPr>
          <a:xfrm>
            <a:off x="1928880" y="785880"/>
            <a:ext cx="5643360" cy="564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o is involved in each graphic nov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role do they pla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 superhero, detective, warrio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other roles could characters play in a graphic nov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560160"/>
            <a:ext cx="8229960" cy="571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08640585\Local Settings\Temporary Internet Files\Content.IE5\0RNNBOX9\MPj04332330000[1].jpg"/>
          <p:cNvPicPr/>
          <p:nvPr/>
        </p:nvPicPr>
        <p:blipFill>
          <a:blip r:embed="rId1"/>
          <a:stretch/>
        </p:blipFill>
        <p:spPr>
          <a:xfrm>
            <a:off x="2143080" y="1500120"/>
            <a:ext cx="4857840" cy="4857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‘type’ are the graphic novels that you have 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action, romance, fantasy, sci-f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any different genres can the class come up wi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14600" y="308160"/>
            <a:ext cx="4114800" cy="8236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nts and Settings\08640585\Local Settings\Temporary Internet Files\Content.IE5\7V3603QK\MCj04403820000[1].png"/>
          <p:cNvPicPr/>
          <p:nvPr/>
        </p:nvPicPr>
        <p:blipFill>
          <a:blip r:embed="rId1"/>
          <a:stretch/>
        </p:blipFill>
        <p:spPr>
          <a:xfrm>
            <a:off x="1357200" y="214200"/>
            <a:ext cx="6286680" cy="628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is the illustration sty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 Cartoon-like, realistic, mang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14600" y="274320"/>
            <a:ext cx="4114800" cy="952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08640585\Local Settings\Temporary Internet Files\Content.IE5\FEWHSZO6\MCj00788120000[1].wmf"/>
          <p:cNvPicPr/>
          <p:nvPr/>
        </p:nvPicPr>
        <p:blipFill>
          <a:blip r:embed="rId1"/>
          <a:stretch/>
        </p:blipFill>
        <p:spPr>
          <a:xfrm>
            <a:off x="2928960" y="1714680"/>
            <a:ext cx="3857760" cy="4989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How is the graphic novel presen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What are the panels l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What is the relationship between the text and the illust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/</a:t>
            </a:r>
            <a:br>
              <a:rPr sz="2400"/>
            </a:b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06:18Z</dcterms:created>
  <dc:creator>Admin User</dc:creator>
  <dc:description/>
  <dc:language>en-US</dc:language>
  <cp:lastModifiedBy>Admin User</cp:lastModifiedBy>
  <dcterms:modified xsi:type="dcterms:W3CDTF">2009-10-21T00:19:51Z</dcterms:modified>
  <cp:revision>87</cp:revision>
  <dc:subject/>
  <dc:title>Miss Gooding’s example of a mindmap</dc:title>
</cp:coreProperties>
</file>